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32950"/>
        <c:axId val="94424158"/>
      </c:barChart>
      <c:catAx>
        <c:axId val="934329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24158"/>
        <c:crosses val="autoZero"/>
        <c:auto val="1"/>
        <c:lblAlgn val="ctr"/>
        <c:lblOffset val="100"/>
        <c:noMultiLvlLbl val="0"/>
      </c:catAx>
      <c:valAx>
        <c:axId val="94424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329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18C-37AF-4ED4-AA92-95DB79F9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3D4-8325-42FE-AD9E-E54D3DC5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5D2-2847-4F4B-BAD4-E7DD7809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F52-BEBF-4E94-A86D-E8DBDD12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F3D-D4B2-4E35-A5DC-5FEEA764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BE9-6884-48CA-8D86-703FCF55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71B-C07A-4813-9054-82B77591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1A1-5563-4940-989B-BDF4C465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C11-45B4-49EA-B84C-5CAEA385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BCA-C412-402A-9246-3B790AE4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0EC-DAE8-4F4A-A33A-A257D2BD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2F2-5AF9-4583-83BA-8A1CB4AE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29B0B-56C4-4E41-A255-CB6B6BC27E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