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25796"/>
        <c:axId val="79016204"/>
      </c:barChart>
      <c:catAx>
        <c:axId val="82725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16204"/>
        <c:crosses val="autoZero"/>
        <c:auto val="1"/>
        <c:lblAlgn val="ctr"/>
        <c:lblOffset val="100"/>
        <c:noMultiLvlLbl val="0"/>
      </c:catAx>
      <c:valAx>
        <c:axId val="79016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25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845-C0DD-47EB-92A4-9CCA8ADF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EC0-0E70-4B57-AC50-303EF5A5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855-59FC-4F32-AAEC-719A5898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C65-C6A8-49A7-87D5-9CF4175A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A91-752F-4F14-ADCD-FE12D00F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220-85AD-425C-9660-A9912446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D6D-8897-4EC3-B0EE-4929AB4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9D9-4344-4663-BD50-D0B5DEDE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159-28F6-4539-B9FD-7A836075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EA7-B5CF-4BA6-AF79-D522CDA7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301-179B-4B8A-AB89-6FB97664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8FB-7B00-48A4-8FCD-950094DC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A60A5-F22C-4DAE-979D-7FF58AA640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